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jpeg" ContentType="image/jpe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9.jpeg" ContentType="image/jpeg"/>
  <Override PartName="/ppt/media/image13.jpeg" ContentType="image/jpeg"/>
  <Override PartName="/ppt/media/image18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10.png" ContentType="image/png"/>
  <Override PartName="/ppt/media/image35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9AFC-547A-419C-B354-90D1BF4E9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3A5F-1778-4C4A-BA18-21E4F898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A47A-01E6-4A07-A7CD-6DCFEDDC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F84E-3B9E-4B3C-B633-67D57F41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3F28-710F-45E2-AC23-BC210C1C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F155-50EC-4BF8-BBC5-BEE8D04D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328E-6DC2-4169-A3D0-318DE0B43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7447-4E83-46D2-AD62-D18CB7735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1F4-70CE-4618-A64E-898117AD4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0246-B1AD-4F5D-B0FD-8A406654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3FA7-E4D1-421A-BF60-0628BAF85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41FD-9BAF-4E6A-B817-4C4692D39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920E-E357-4A28-ACF6-B3BB149D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AC43-6822-4204-ACBC-D9AC18A1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B455-0241-4E32-9055-D2C8CBD75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9B1F-851D-4B88-96E3-A10CEF88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C5E6-1080-425C-857E-DF6F8B72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18F9-E883-49BC-8409-3459895A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8D20-BE80-4E97-89D4-F92E431A7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63D1-F16E-4A4F-B386-3033ADB87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5411-BB38-46C6-A65B-4EF356DE9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341-DAAD-483A-80CE-A3835EC6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9ED-8A42-4F15-9D49-A99CE8CF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8B8-ADAD-48D0-88CA-C77951A6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155-B693-4731-8A2B-FC442211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F11A-E6E4-4454-B229-F11C338D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5109-D04D-4541-9CDF-AF4731D0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F975-5414-4013-A61D-3579D81E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8F55-F574-4C59-98C8-305121C3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1E8B-9405-44A9-B4D4-846C0D66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0A96-4F68-4FD6-80E5-AC1A4C1D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65EC-1FEE-4B70-8951-0D0F70A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753-BF01-41D1-9FE5-C885F180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B2A9-1694-47E9-B287-596B2C70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C69B-2649-4A13-9BE8-C144DB0F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C0EE-1F21-4DF5-8D42-F04DB2D9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FE58-4F58-4AA2-BBD5-61F38D9B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5975-B4DF-4025-890B-4015C2EA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594F-41B4-436D-8DB3-146ACDFB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E43C-08E0-4317-A5BD-08DD6490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7CD1-874A-4628-8D16-A5C02254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3AB9-2252-42EE-A42A-6241F818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BD3B-076E-46D3-866F-C8D5F040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43B-500C-45E5-BB47-3C7B0234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4A40-8B59-4A35-B724-57A318ED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EDF5-21B8-4C47-8226-A73052C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94AA-A9A2-482D-942B-BF947BBA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04E7-0DCE-4BDB-A339-C5062FF7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108B-65AD-40AD-8346-B6100093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D743-979D-4B76-8782-2A4257BA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7DD4-7FE2-4500-BA16-39FEBE3D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4077-DC6D-416D-9964-8DC31B4F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190C-EB85-4B13-9D7B-045CCCA1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00AB-7FC1-4312-933A-3E6EF814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551-93EB-43F5-BF85-19129B0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E8F54-EEE4-4BF5-8842-49A4FAD1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77F3-A6C2-4CBF-9B81-8104275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8655-32D1-4810-8ED6-79135B81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8379-2E0D-42FC-8D32-DBB15034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8843-0768-4D82-8A86-F6E70B5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D604C-7183-4655-8344-1587052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E2C27-AC89-4070-97DC-3FE4877F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BEF4-D5F8-4F93-832C-8BB769F3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A1126-AB25-4420-8B92-2E25813B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0BFE6-9AC1-4998-B891-8028F9D7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376-D5CF-464D-A135-2CFEAADC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9E77-6965-4B38-9008-79585B68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4C3D-5F2E-4EE7-AEF4-FEDD2F78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B270-5B33-4CC4-B7CD-F7534173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8B6D-5049-4F0A-B644-F5BDD644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222DA-436A-4AA1-98A7-F7D8168F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9A1E-6045-4025-A9AB-9B24C01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FE1E-9C6E-4B1D-991A-54986526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B1F7C-6DDB-4FA6-9576-AAE858A5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421C-49E9-4946-A4BA-281C2A33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EBD56-AB6C-41C5-BBB7-FCE63E87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68D-02A3-4817-AEEB-91F7E358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1400A-6604-4214-85E6-C5AA219A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32275-C498-46F2-8FD1-09137905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2BA47-CEF3-4024-A9FF-95ABC35A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CFC62-E3D3-49C7-AFD3-E079B154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DB03C-5E64-475E-9F85-926A295A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AB229-3B9F-4035-8780-3C032101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2F682-F99F-40CD-89A2-767A39CF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907D7-C70F-453E-B167-13ADAA7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DE2B-EF90-401E-8C42-8C4E0C97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C2824-6598-4091-877D-AE121E30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11B-899E-444B-93B4-AC58A49F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FC72B-9A2A-43EE-8293-85E6D87B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99804-76C5-4BC6-B4BB-48BBCB05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675CF-BD5B-4F75-A587-90043724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53F-4AE0-49F2-9581-AF4B1644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F72-82CB-44E7-86A6-A8FE8C86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F216-927D-405F-A0DA-3E374BB9494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428A-0C17-4BB9-BE6B-B1CCB5E190A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C5B6-B7B7-4FBD-A851-CC0819B5CE5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AA2-5F94-4F49-9E29-B3D3B885214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80C5-44FE-4A99-86AB-130F0C6AFAA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7CC1-B533-40AB-BDB7-E9704DC70D5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youtube.com/watch?v=rZy6XilXDZQ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youtu.be/iDR1zdT3qBA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Engravers MT"/>
              </a:rPr>
              <a:t>Monarch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Engravers MT"/>
              </a:rPr>
              <a:t>(1066-1485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216-127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King Joh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9 years old but didn’t rule until he came of a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ickle tyr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5" descr="king henry III"/>
          <p:cNvPicPr/>
          <p:nvPr/>
        </p:nvPicPr>
        <p:blipFill>
          <a:blip r:embed="rId2"/>
          <a:stretch/>
        </p:blipFill>
        <p:spPr>
          <a:xfrm>
            <a:off x="5943600" y="175248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272-130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Henry I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de Wales a part of the English realm in 1283 ( gave his son the title Prince of Wale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ginning of Parliament – 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accepted the idea that laws could not be made nor taxes levied without the consent of Parliament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9" descr="king edward I"/>
          <p:cNvPicPr/>
          <p:nvPr/>
        </p:nvPicPr>
        <p:blipFill>
          <a:blip r:embed="rId2"/>
          <a:stretch/>
        </p:blipFill>
        <p:spPr>
          <a:xfrm>
            <a:off x="5867280" y="1752480"/>
            <a:ext cx="2876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307-132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Edward 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Incompetent rul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orced (by Parliament) to give up the throne in 132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7" descr="king edward II"/>
          <p:cNvPicPr/>
          <p:nvPr/>
        </p:nvPicPr>
        <p:blipFill>
          <a:blip r:embed="rId2"/>
          <a:stretch/>
        </p:blipFill>
        <p:spPr>
          <a:xfrm>
            <a:off x="5715000" y="1676520"/>
            <a:ext cx="2895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212760" y="73080"/>
            <a:ext cx="848052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327-137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Edward 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ginning of Hundred Years War –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 between England and Fra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aimed the French throne 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b/c his mother was the sister of 3 French kin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Plague reduced the nation’s population by 1/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youtube.com/watch?v=rZy6XilXDZQ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icture 6" descr="king edward III"/>
          <p:cNvPicPr/>
          <p:nvPr/>
        </p:nvPicPr>
        <p:blipFill>
          <a:blip r:embed="rId3"/>
          <a:stretch/>
        </p:blipFill>
        <p:spPr>
          <a:xfrm>
            <a:off x="6014880" y="1828800"/>
            <a:ext cx="2671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377-139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came king at age 1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vised by uncle, John of Gau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Tyr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ole land from Henry Bolingbroke, son of John of Gau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VERTHROWN; 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died in prison; probably murder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1" name="Picture 5" descr="king richard II"/>
          <p:cNvPicPr/>
          <p:nvPr/>
        </p:nvPicPr>
        <p:blipFill>
          <a:blip r:embed="rId2"/>
          <a:stretch/>
        </p:blipFill>
        <p:spPr>
          <a:xfrm>
            <a:off x="6019920" y="15238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8467920" cy="1251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399-141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nry Bolingbroke – overthrew Richa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ected by Parlia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reased Parliamentary pow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Picture 5" descr="king henry IV"/>
          <p:cNvPicPr/>
          <p:nvPr/>
        </p:nvPicPr>
        <p:blipFill>
          <a:blip r:embed="rId2"/>
          <a:stretch/>
        </p:blipFill>
        <p:spPr>
          <a:xfrm>
            <a:off x="5715000" y="1752480"/>
            <a:ext cx="2590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413-142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Henry I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rried daughter of Charles VI, King of Fra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orced King Charles to declare him heir to the French crow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7" name="Picture 5" descr="king henry V"/>
          <p:cNvPicPr/>
          <p:nvPr/>
        </p:nvPicPr>
        <p:blipFill>
          <a:blip r:embed="rId2"/>
          <a:stretch/>
        </p:blipFill>
        <p:spPr>
          <a:xfrm>
            <a:off x="5486400" y="1523880"/>
            <a:ext cx="2895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422-146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Henry 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came king when less than a year ol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Weak ruler; attacks of insan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verthrown by Yor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0" name="Picture 5" descr="king henry VI"/>
          <p:cNvPicPr/>
          <p:nvPr/>
        </p:nvPicPr>
        <p:blipFill>
          <a:blip r:embed="rId2"/>
          <a:stretch/>
        </p:blipFill>
        <p:spPr>
          <a:xfrm>
            <a:off x="5867280" y="175248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8467920" cy="1251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461-1470 then 1471-148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on of Richard, Duke of York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Trebuchet MS"/>
              </a:rPr>
              <a:t>Started War of the Ros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15160" indent="-22608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b050"/>
                </a:solidFill>
                <a:latin typeface="Trebuchet MS"/>
              </a:rPr>
              <a:t>Lancasters = red rose</a:t>
            </a:r>
            <a:endParaRPr b="0" lang="en-US" sz="19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b050"/>
                </a:solidFill>
                <a:latin typeface="Trebuchet MS"/>
              </a:rPr>
              <a:t>Yorks = white rose</a:t>
            </a:r>
            <a:endParaRPr b="0" lang="en-US" sz="1900" spc="-1" strike="noStrike">
              <a:solidFill>
                <a:srgbClr val="6c6c6c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Trebuchet MS"/>
              </a:rPr>
              <a:t>Overthrew Henry VI who fled to Franc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enry VI regained the throne in 147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Trebuchet MS"/>
              </a:rPr>
              <a:t>Edward IV regained power in 1471, killed Henry VI, and paved the way for absolute monarch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youtu.be/iDR1zdT3qB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3" name="Picture 5" descr="king edward IV"/>
          <p:cNvPicPr/>
          <p:nvPr/>
        </p:nvPicPr>
        <p:blipFill>
          <a:blip r:embed="rId3"/>
          <a:stretch/>
        </p:blipFill>
        <p:spPr>
          <a:xfrm>
            <a:off x="5791320" y="1600200"/>
            <a:ext cx="2819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5257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48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Edward I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12 years ol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Aided” by his uncle, Richard I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b639"/>
                </a:solidFill>
                <a:latin typeface="Trebuchet MS"/>
              </a:rPr>
              <a:t>Edward V and his younger brother were locked in the Tower of London and murdered by Richard III’s nob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6" name="Picture 5" descr="king edward V"/>
          <p:cNvPicPr/>
          <p:nvPr/>
        </p:nvPicPr>
        <p:blipFill>
          <a:blip r:embed="rId2"/>
          <a:stretch/>
        </p:blipFill>
        <p:spPr>
          <a:xfrm>
            <a:off x="6553080" y="1828800"/>
            <a:ext cx="167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RMA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066-108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William the Conqueror (duke of Normandy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Defeated Harold, the Saxon king, at the Battle of Hastings (A.D.1066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ed the Doomsday Book –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(the first census) inventoried nearly every piece of property in Engl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6" descr="william the conqueror"/>
          <p:cNvPicPr/>
          <p:nvPr/>
        </p:nvPicPr>
        <p:blipFill>
          <a:blip r:embed="rId2"/>
          <a:stretch/>
        </p:blipFill>
        <p:spPr>
          <a:xfrm>
            <a:off x="5715000" y="1219320"/>
            <a:ext cx="3048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483-148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ward V’s unc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Became king after having his young nephews murdered in the Tower of Lond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9" name="Picture 5" descr="king richard III"/>
          <p:cNvPicPr/>
          <p:nvPr/>
        </p:nvPicPr>
        <p:blipFill>
          <a:blip r:embed="rId2"/>
          <a:stretch/>
        </p:blipFill>
        <p:spPr>
          <a:xfrm>
            <a:off x="6095880" y="144792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7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87-11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Wm. 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Illitera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Power-hungry and viol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Bitter quarrels with Roman Catholic Chur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Killed while hunting; denied Christian buri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10" descr="william II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00-113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ngest son of Wm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ted Saxons and Normans by marrying Matilda who was half Sax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enry I"/>
          <p:cNvPicPr/>
          <p:nvPr/>
        </p:nvPicPr>
        <p:blipFill>
          <a:blip r:embed="rId2"/>
          <a:stretch/>
        </p:blipFill>
        <p:spPr>
          <a:xfrm>
            <a:off x="5334120" y="1295280"/>
            <a:ext cx="3200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35-115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nry’s nephe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*Henry’s daughter (Matilda) was next in line for the throne, but Henry’s barons failed to support her after Henry di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Stephen was forced to recognize Henry, Matilda’s son, as his successo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Picture 5" descr="king stephen"/>
          <p:cNvPicPr/>
          <p:nvPr/>
        </p:nvPicPr>
        <p:blipFill>
          <a:blip r:embed="rId2"/>
          <a:stretch/>
        </p:blipFill>
        <p:spPr>
          <a:xfrm>
            <a:off x="5638680" y="137160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8467920" cy="1251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54-118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nry I’s grandson – son of Matilda, Henry’s daughter, and Geoffrey Plantagene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Motto: “From the devil we sprang, and to the devil we shall go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Introduced trial by ju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d Thomas a Becket murder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5" descr="king henry II"/>
          <p:cNvPicPr/>
          <p:nvPr/>
        </p:nvPicPr>
        <p:blipFill>
          <a:blip r:embed="rId2"/>
          <a:stretch/>
        </p:blipFill>
        <p:spPr>
          <a:xfrm>
            <a:off x="5715000" y="1905120"/>
            <a:ext cx="266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049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ing Henry II and Thomas were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omas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lived in luxury and was appointed Chancellor of Engl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1162 King Henry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appointed Thomas Archbishop of Canterbury in hopes of gaining more contro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omas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took his job seriousl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; refused to take the king’s si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King commented, “Won’t someone rid me of this turbulent priest?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Four knights murdered Thomas a Becket while he was praying at Canterbury Cathedr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6" descr="thomas a becket"/>
          <p:cNvPicPr/>
          <p:nvPr/>
        </p:nvPicPr>
        <p:blipFill>
          <a:blip r:embed="rId2"/>
          <a:stretch/>
        </p:blipFill>
        <p:spPr>
          <a:xfrm>
            <a:off x="5791320" y="1828800"/>
            <a:ext cx="2057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89-119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Son of Henry 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Richard the Lionhear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Spent less than 6 months of his 10-year reign in Englan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Performed no real service for the coun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ought in crusades; killed in batt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Picture 6" descr="richard I"/>
          <p:cNvPicPr/>
          <p:nvPr/>
        </p:nvPicPr>
        <p:blipFill>
          <a:blip r:embed="rId2"/>
          <a:stretch/>
        </p:blipFill>
        <p:spPr>
          <a:xfrm>
            <a:off x="6181560" y="1600200"/>
            <a:ext cx="2505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99-121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ngest son of Henry 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Known as England’s worst king (no other king ever named John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orced to sign the Magna Carta at Runnymede Meado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Beginning of democra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6" descr="king john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095880" y="2057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22:55:45Z</dcterms:created>
  <dc:creator>Bishop</dc:creator>
  <dc:description/>
  <dc:language>en-US</dc:language>
  <cp:lastModifiedBy>pcoles</cp:lastModifiedBy>
  <dcterms:modified xsi:type="dcterms:W3CDTF">2011-10-25T15:09:32Z</dcterms:modified>
  <cp:revision>76</cp:revision>
  <dc:subject/>
  <dc:title>Medieval Period</dc:title>
</cp:coreProperties>
</file>